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31B0B-E5F1-4CAE-B4E0-0ADFDBAE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E70A5-A03B-4973-B2C6-394169C7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CDAF9-3144-41AD-AC0A-B61A1A17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A0BAC-B8E1-4482-ADD7-437C6921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39C5-C85E-44E1-A299-4BF134A3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DDBB-FDA0-4F07-86A8-0B6C4ADF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E470-A672-4565-8535-4EA357E0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0E34-D410-4ED6-8398-A307F5C9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6FF2-4134-4300-810D-2811DDEC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5E03-9153-46E2-8F5C-058BEE42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7587-AC1E-4465-B46A-AD2F1A02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56F1A-02A3-4F21-BE1D-F9B1312D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2FDB-2875-437D-AFBA-FECB475E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C5BA-E536-4411-A384-75A5B002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2232-EE8F-44C4-865F-F9F70E1E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BD35-6783-4B3C-BC50-6B595E7F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78AA-68C7-47C7-9B52-2D52959B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15ED2-78DF-4BC0-8A0A-75C1F038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A860B-4B28-4F87-9C9F-D986F694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9BE86-57D1-4B7D-B1A9-D8497871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83AC6-EFDB-451A-976B-32D12FD4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EDC28-701C-41A8-8813-E422B5E6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B67EC-3CA8-4562-8639-F11C22A5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6D28F-DFD5-49D9-A078-7361A80D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AA15-18E7-4CDD-8AA5-D8AE537F7FD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1817-D203-4241-9C03-562AEC9B6AB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379440"/>
            <a:ext cx="9577440" cy="58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150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(106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О, Любов пречудна, свята,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що слезна от Божи трон!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Вместо слава, на земята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търси тя смирен подслон!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О, Исусе, Твойта милост и любов са без предел!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Влез във нас, огрей ни в святост,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на живота дай Ти цел!</a:t>
            </a:r>
            <a:r>
              <a:rPr b="0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005840"/>
            <a:ext cx="964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Дай Духа Си - Утешите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смутените сърц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 в покойната обите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аследим мир с Хрис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всегда ще ни омай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ят бляс'к неизразим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и ние ще бъдем в слав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ще се преобрази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36360" y="1148760"/>
            <a:ext cx="921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А в тоз свят, о, приготви 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небесния поко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ай-сетне приеми 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блаженство в дома Тв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ло свято в нас започн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любовта, що Бог дар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ре в святост непорочн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м Бог ще ни озар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2-12T17:09:25Z</dcterms:modified>
  <cp:revision>87</cp:revision>
  <dc:subject/>
  <dc:title>Slide 1</dc:title>
</cp:coreProperties>
</file>